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90E-AC02-4B74-A19D-4E2CC8D3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A6A-8E15-4125-8D97-1FC955C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990-AFDA-4E25-AF6F-5FD85244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F27-27DE-4079-91DB-22B333AE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52C4-B073-469C-8D7B-868B3EE2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F50-7A20-47F5-B0F9-3DC4FFD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C71-90C4-4753-B3E2-74AD90EF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7E0-DBFF-496A-B9D8-04A908C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6D0F-E7AB-4F0C-8896-138F421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829C-5E76-45E7-86BD-39328ED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16A-B334-43ED-B334-1AA04B5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785-C12C-42C5-B69D-2ACCBF8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32E8-467E-4A6F-976C-CEC568F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CBB-7B74-4BAF-AF73-581CB33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CF11-98A3-4586-9B21-EF9AF92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B40-1A74-423B-8AD0-531CCE2C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790-31DF-4B43-A881-55B5B092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FC3-820B-4F47-BA4A-2485375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6C8-0A11-4E5E-9B71-85FC54F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7B0-16D1-4381-A70C-49C49FA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E6B-50F2-49AD-8E8C-2DB4469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9EC-EAA0-49B8-984E-3BC95D2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5DF-F8D6-4BD5-966A-C79E920F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E77-CC96-4490-9995-74C4AA4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E49D-6354-4F03-AA51-7270E22F9B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F3E-1F71-4B4E-A742-32E66A38C9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Урок окружающего мира в 3 классе.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 уксусной кислоте прикасаться опасно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ный дождь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708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м итоги урока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695160" y="1573200"/>
            <a:ext cx="1846440" cy="1766880"/>
            <a:chOff x="695160" y="1573200"/>
            <a:chExt cx="1846440" cy="1766880"/>
          </a:xfrm>
        </p:grpSpPr>
        <p:pic>
          <p:nvPicPr>
            <p:cNvPr id="241" name="AutoShape 4" descr=""/>
            <p:cNvPicPr/>
            <p:nvPr/>
          </p:nvPicPr>
          <p:blipFill>
            <a:blip r:embed="rId1"/>
            <a:stretch/>
          </p:blipFill>
          <p:spPr>
            <a:xfrm>
              <a:off x="695160" y="1573200"/>
              <a:ext cx="18464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16208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AutoShape 6"/>
          <p:cNvGrpSpPr/>
          <p:nvPr/>
        </p:nvGrpSpPr>
        <p:grpSpPr>
          <a:xfrm>
            <a:off x="3505320" y="1639800"/>
            <a:ext cx="1847880" cy="1773360"/>
            <a:chOff x="3505320" y="1639800"/>
            <a:chExt cx="1847880" cy="1773360"/>
          </a:xfrm>
        </p:grpSpPr>
        <p:pic>
          <p:nvPicPr>
            <p:cNvPr id="244" name="AutoShape 6" descr=""/>
            <p:cNvPicPr/>
            <p:nvPr/>
          </p:nvPicPr>
          <p:blipFill>
            <a:blip r:embed="rId2"/>
            <a:stretch/>
          </p:blipFill>
          <p:spPr>
            <a:xfrm>
              <a:off x="3505320" y="1639800"/>
              <a:ext cx="1847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3970440" y="2095560"/>
              <a:ext cx="914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5"/>
          <p:cNvGrpSpPr/>
          <p:nvPr/>
        </p:nvGrpSpPr>
        <p:grpSpPr>
          <a:xfrm>
            <a:off x="6315120" y="1573200"/>
            <a:ext cx="1841400" cy="1766880"/>
            <a:chOff x="6315120" y="1573200"/>
            <a:chExt cx="1841400" cy="17668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6315120" y="1573200"/>
              <a:ext cx="184140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677880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-990720" y="3156480"/>
            <a:ext cx="1116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веществами мы сегодня познаком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Где мы их встречаем каждый ден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из этих веществ мы должны 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ельно  осторожными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ите сегодняшний урок и покажите карто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ношение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з чего состоят ве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Какие вещества быв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80060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933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7242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48769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69592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5627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6386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41972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562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410080"/>
            <a:ext cx="38124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4100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864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943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1520" y="457200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472428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72400" y="533340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5257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57150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6019200"/>
            <a:ext cx="3045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ухн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848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гадайте загадк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ня не едя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без меня  мало едя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403740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бел, как снег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сти у все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от попа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и проп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юкоза, фруктоза – разновидность сахар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7680" cy="337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297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4361040"/>
            <a:ext cx="3073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хмал – тоже вещество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743360" cy="3645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3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бота в тетрад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16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Название веще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3526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лав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276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де встречается, содерж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ен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и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44956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рской воде, под зем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1814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уктах, меде, сахарной свекле, трост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8672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локе, яблоках, муравь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изминут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работали  от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ть не прочь сейчас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рядка к нам привы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 приходит в кла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ше руки, выше пят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нитесь ве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попрыгаем, как зай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у станем всех бод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янулись и вздохну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3324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ы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46480" cy="299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371600" y="4241880"/>
            <a:ext cx="3035160" cy="261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4383000"/>
            <a:ext cx="3295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1-10-07T10:36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